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00E-7C3A-4F1A-8B76-BB96AE98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B43-DE75-4477-8C70-48DA8EAE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268-43E0-475E-AFF4-FE52E53D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F5D-B452-4185-8B93-0993D888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3D7C-6D8B-4F73-B5F9-1C81487D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08C-1D3E-4B10-B309-F6E669E1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6398-9188-47E2-BDC4-CC7AB01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E2C3-6F8D-40FD-BB29-A481921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3949-1BA1-4011-B155-6AEFF3D8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01B2-8280-4F7A-9335-DBF7E0E4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E3DF-3E50-49A3-8457-1C1967E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8AA-E3E0-4C8E-9367-A8B6ABFC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A739-EFDD-4079-9B13-415FA00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CCE1-FA09-4C31-866E-C39519B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D4B4-A27C-43CB-B1BF-B7945F94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14CD-A21A-4312-B80A-78B0327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CFEA-4EEA-4B68-98E7-DE9DF827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857F-9E8D-46DE-9B65-3473A9F4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EF2B-7D68-4AB2-948C-BC78E7A2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8FDC-8699-4903-9290-F77D4361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CB2A-455D-4C29-B80B-3E7089B6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76FC-C581-4E5E-934C-985DE6C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536-943B-4DE3-951F-3C5C9F5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91F7-362A-4BBD-9353-5B40F9FF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FE95-6654-4EEE-9D82-1A2A86F6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60E1-1E39-4F98-A2BD-B9C4D80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0C82-2833-4E22-82E7-B95F70A4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8960-148E-4AC1-8992-63D81598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3AC7-53B9-46F6-B8E1-24BA3EF0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CEC5-FD41-4A7F-9787-E352137C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3274-1B98-419E-B59F-4A584FA4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B864-F3E9-412E-ACCD-189AB07E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163C-BF50-432F-B8E0-F6992F18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E97-E103-4A31-B8BE-7FE3D0F6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20F3-2686-4FE8-A49C-0835BA69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7FCC-F70B-4FB6-ADA0-667A21C8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E752-BED2-4F88-A283-DA54FD1C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1159-2B8D-433C-84F3-E867E9E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C23C-A755-47D1-A785-E37020F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66FE-5A35-41EE-898D-F1928724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1FC0-881D-4FDA-8F12-AD0DFE6B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D739-974F-43E3-AD54-DD814057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B5E7-E1A3-45B1-A42D-C9DE395D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63A-D33B-41AE-9B42-A7EB506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18F-5C90-466C-BAF0-43A7CCA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15C-C695-41CB-B2EE-4B3B08C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40A-3D27-46E5-9731-22904E33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AEC-6B6C-4723-9DCF-8FC7B98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C0B-754A-4A98-BF41-9FB9F5CB2A7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5A0-7BFE-4AA1-B8BE-72417B21F48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AFB-FF55-4895-A4B8-1414415FF1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803A-87E7-472B-90F8-2F073793A9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ceann@chalker.org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Ann Chalk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ceann@chalker.or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udents may adjust the tower until they begin loading the sa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ams are given 10 minutes to load the sand into the bucke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and loading stops –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failure of the tower occu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maximum load is supported (15 k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the chain comes in contact with the tow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any part of the tower extends below the top surface of the Test B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ad Supported includes –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ading bloc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bol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sh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ing nu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ucke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a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Scoring Formu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core= Load Supported (grams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/Mass of Tower(grams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ighest Score wi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ie Break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9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ies will be broken in favor of the lighter structu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i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1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Constantia"/>
              </a:rPr>
              <a:t>s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 Ti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 meets all Construction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2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Constantia"/>
              </a:rPr>
              <a:t>n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 Ti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 does not meet one or more Construction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iers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3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Constantia"/>
              </a:rPr>
              <a:t>r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 Ti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ructure can not be tested for any reason will be ranked by the lowest ma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Disclaimer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is presentation was prepared using </a:t>
            </a: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draft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rules.  There may be some changes in the final copy of the rules.  The rules which will be in your Coaches Manual and Student Manuals will be the official rul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Tower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2246040"/>
            <a:ext cx="777240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tudents will design and build the lightest structure holding the greatest amount of weight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R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Only 1 structure entered per tea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 Impou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sting maximum load 15 k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udents must wear gogg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s must be marked by team so judges can identify the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 is a single structure (no separate or detachable pieces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Constr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owers must be made of only wood and bonding glue (any type of glue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o particle board, plywood, beaverboard, or other composite wood are allowed (this includes bamboo and paper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Unlimited lamination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by students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is allow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o limit on the cross section size of individual pieces of woo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ust accommodate a loading block that is 5.0cm x 5.0cm x 2.0cm w/a ¼ inch diameter hole in the cent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ight – All parts of the loading block must be a minimum 50.0 cm above the platform (no max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base of the Tower must span the testing platform which has a 20.0 cm x 20.0 cm square opening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 portion of the Tower may extend below the top surface of the testing platfo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Tower may not be braced against the edge of the Test B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fter set up, the Tower may only contact the Loading Block and the Test B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Division B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ortion of the tower more than 30.0 cm above the test base must pass through an 8.0 cm diameter hole or op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Division C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ortion of the tower more than15 cm above the test base must pass through an 8.0 cm diameter hole or op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chain and bucket will be suspended from the loading bloc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ructures will be tested by loading sand into the bucket up to 15 k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udents will be the only ones to handle their structur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1:35:14Z</dcterms:created>
  <dc:creator>D19XP</dc:creator>
  <dc:description/>
  <dc:language>en-US</dc:language>
  <cp:lastModifiedBy>Mark A. Van Hecke</cp:lastModifiedBy>
  <dcterms:modified xsi:type="dcterms:W3CDTF">2010-07-07T21:44:48Z</dcterms:modified>
  <cp:revision>37</cp:revision>
  <dc:subject/>
  <dc:title>SCIENCE OLYMPI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